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7760" cy="37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1" lang="en-US" sz="5000" spc="-1" strike="noStrike">
                <a:solidFill>
                  <a:srgbClr val="ffc800"/>
                </a:solidFill>
                <a:latin typeface="Corbel"/>
              </a:rPr>
              <a:t>Click to move the slide</a:t>
            </a: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176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 type="dt" idx="28"/>
          </p:nvPr>
        </p:nvSpPr>
        <p:spPr>
          <a:xfrm>
            <a:off x="4398480" y="-360"/>
            <a:ext cx="337212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 type="ftr" idx="29"/>
          </p:nvPr>
        </p:nvSpPr>
        <p:spPr>
          <a:xfrm>
            <a:off x="0" y="9555120"/>
            <a:ext cx="337176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6"/>
          <p:cNvSpPr>
            <a:spLocks noGrp="1"/>
          </p:cNvSpPr>
          <p:nvPr>
            <p:ph type="sldNum" idx="30"/>
          </p:nvPr>
        </p:nvSpPr>
        <p:spPr>
          <a:xfrm>
            <a:off x="439848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0EB0F6-B319-4192-9C5F-88B1DF5BA83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30B7B4-C3A8-48CF-9CB7-C9E81DE148A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755B15-0B77-4797-96B8-5788521FB1B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6F5E68-4877-4279-BAFC-AE85E532BAF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322B98-1315-4263-ABEA-C7B23891B00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D50DBC-FE8B-4269-9448-532F8904BD7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E348DA-B908-4307-96CB-6EB6F192089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FE8A7E-33B2-4426-946E-BC0799B1D5F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743693-5064-4C1A-99EA-5D71F8C156C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C4187D-E1E0-4B17-A4CF-8921404D375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6AB37E-8533-458F-8000-545D46C7C07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08EC6B-96F0-4CF5-A79A-68C7E0E9AB7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FDCFA-0F06-45C3-937A-927044CA4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90741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3280" y="4620960"/>
            <a:ext cx="90741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52F62-E6E0-49C4-9071-EFABF5B46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442800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153040" y="1957320"/>
            <a:ext cx="442800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E1EDB0-EBF3-4247-B76F-A37CD8C24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FA77A5-80DF-4F39-AEE5-328A7FCE2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503280" y="168120"/>
            <a:ext cx="9074160" cy="63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03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574855-5FB9-4AE3-821B-7DEF5BFE7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5153040" y="1957320"/>
            <a:ext cx="442800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03280" y="462096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680228-B265-4BF5-AE7C-E977C0EF9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442800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515304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5153040" y="462096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3971A7-47A6-459A-A277-C7A07FDF3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515304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503280" y="4620960"/>
            <a:ext cx="90741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D4108F-366B-4B42-BC84-FE78E16D9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90741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503280" y="4620960"/>
            <a:ext cx="90741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5970E6-53FE-41F6-AA40-9C610E804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515304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503280" y="462096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5153040" y="462096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4F6104-D343-4A71-8E99-92EF16ABC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571560" y="195732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639840" y="195732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503280" y="462096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571560" y="462096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639840" y="462096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16212A-4733-4B14-ABAE-B20460CCA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304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3280" y="462096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53040" y="462096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10113-2BD8-40CB-BCA4-052A347E5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71560" y="195732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39840" y="195732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3280" y="462096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71560" y="462096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639840" y="462096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E6FA0-8CF0-4F4F-88D6-B987ECB6C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7D788-2DA3-4569-9926-A21661A43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503280" y="1957320"/>
            <a:ext cx="9074160" cy="509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03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516CD-CA5C-4B1B-9695-C34BDB3ED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907416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C1BCA-38E6-4065-8930-ACDF688A2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442800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3040" y="1957320"/>
            <a:ext cx="442800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21D96-B0EC-4E5F-87C7-5921A1539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D769A-775C-4D00-8075-C80565D99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503280" y="168120"/>
            <a:ext cx="9074160" cy="63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03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D787B-BAA0-4222-8635-98107E24A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53040" y="1957320"/>
            <a:ext cx="442800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3280" y="462096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91C71-CAFB-4675-982F-F4A8945D6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03280" y="1957320"/>
            <a:ext cx="9074160" cy="509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03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A2C9C-D4F0-4470-8FFE-F3CD0276F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442800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5304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153040" y="462096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B8B71-5CE3-43F9-8B77-B90C697FA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5304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3280" y="4620960"/>
            <a:ext cx="90741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BE193-4B26-4826-B15A-E0D2D3C83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90741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3280" y="4620960"/>
            <a:ext cx="90741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D2E20-F915-411B-9BD2-3BBE41824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15304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03280" y="462096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153040" y="462096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37618-6706-4C0B-BE19-829F72B04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571560" y="195732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639840" y="195732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3280" y="462096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571560" y="462096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639840" y="462096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41906-D928-4975-93DB-3877E3244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D1B4A5-35D9-4BDA-A9D6-48F6D4F10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503280" y="1957320"/>
            <a:ext cx="9074160" cy="509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03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DCA682-FF14-4AE0-AA55-2696EA232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907416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717DC4-C73A-4834-BDA1-093EBFEDF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442800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153040" y="1957320"/>
            <a:ext cx="442800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E23598-B848-4234-9925-A5F5703D3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4A56D2-20B9-4DA0-A8BF-2E5E36F9E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907416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AD53E-F683-4D88-B642-C1EE32DC4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503280" y="168120"/>
            <a:ext cx="9074160" cy="63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03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A8FE9F-9FE5-4DC0-A3BF-18D04B7D6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153040" y="1957320"/>
            <a:ext cx="442800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03280" y="462096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85EB95-3CF1-4F39-B1DC-21BD23B5E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442800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15304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5153040" y="462096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47FBD7-7EEA-4279-B24C-080F91DBC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5304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503280" y="4620960"/>
            <a:ext cx="90741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2B7B9D-8395-4EE2-917B-394964955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90741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03280" y="4620960"/>
            <a:ext cx="90741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FA18C8-04E8-4EAE-A97D-69057B445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15304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03280" y="462096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153040" y="462096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5F1E66-D108-4EC0-B52C-A57F76871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571560" y="195732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639840" y="195732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503280" y="462096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571560" y="462096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639840" y="462096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D132C9-8FBF-4836-B21D-A9D232B10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60C6E8-9413-4611-8579-BFCB24618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3280" y="1957320"/>
            <a:ext cx="9074160" cy="509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03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3498DC-359B-4DFF-B9FD-9FD73E742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907416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A0E5AD-5513-492C-BC8C-3D2BF754D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442800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53040" y="1957320"/>
            <a:ext cx="442800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ED83F-AFF0-4777-A648-99FDA9258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442800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153040" y="1957320"/>
            <a:ext cx="442800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CEC7AB-0FB0-4610-8BA9-EE344102B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E6C393-D8B3-4014-9C46-7F9127BD1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3280" y="168120"/>
            <a:ext cx="9074160" cy="63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03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F4428F-9D70-46DC-9244-3BD876925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153040" y="1957320"/>
            <a:ext cx="442800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3280" y="462096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681B5F-122B-41D4-8DB8-251FA41F2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442800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515304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5153040" y="462096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2ACCD4-C8F9-4BE1-978C-BC37726E3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515304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3280" y="4620960"/>
            <a:ext cx="90741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D1B209-9E57-4F28-97CA-3847A0BB8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90741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3280" y="4620960"/>
            <a:ext cx="90741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9B43BC-D417-4549-B4ED-9116E219E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515304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462096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5153040" y="462096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779001-FD61-486A-83B4-8711982D8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571560" y="195732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639840" y="195732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3280" y="462096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571560" y="462096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639840" y="462096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61CE8F-8C50-476D-8ED2-0A7DFB1B0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62B954-456D-4E6A-8B34-DCDF705E1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846D1-148E-4630-94DF-BDDF92DDA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503280" y="1957320"/>
            <a:ext cx="9074160" cy="509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03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2B5412-DF24-417A-BD7F-23E60F714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907416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D51CF5-BE78-439A-B3F4-69ABAA3C1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442800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153040" y="1957320"/>
            <a:ext cx="442800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4C1EBB-ABF0-47F0-8221-44936A947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B62A5F-2F9D-469E-9EF8-A66F3F791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503280" y="168120"/>
            <a:ext cx="9074160" cy="63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03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079C11-109D-4BE0-86D0-72FC15D3D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5153040" y="1957320"/>
            <a:ext cx="442800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503280" y="462096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FD60E1-C706-4871-82E0-BFFF2883F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442800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515304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5153040" y="462096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FEB81C-EDFF-4EF4-B17A-3C9FAC6B9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515304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03280" y="4620960"/>
            <a:ext cx="90741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BDA89F-DD34-4084-A6B9-A1491970E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90741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03280" y="4620960"/>
            <a:ext cx="90741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1B22D8-25F2-4094-ACF0-026168C19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515304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503280" y="462096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5153040" y="462096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CC23B5-128D-4EDE-B9FD-9F74761F6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03280" y="168120"/>
            <a:ext cx="9074160" cy="63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03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88142-1D11-44CE-AEC1-F22DCFE67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571560" y="195732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639840" y="195732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503280" y="462096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571560" y="462096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639840" y="462096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749E84-AF64-4CA8-8C38-7B6E367C1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47D04D-AF4C-4F32-AE77-4EC4DFE56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503280" y="1957320"/>
            <a:ext cx="9074160" cy="509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03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69D839-C6A7-48D6-9F22-FFE28AA28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907416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1C518B-A04E-46FD-82BD-50AF57004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442800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5153040" y="1957320"/>
            <a:ext cx="442800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BCA2A1-3DD0-4D3C-833F-730968F81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07A887-F7C1-406E-AFD4-39AB81C53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503280" y="168120"/>
            <a:ext cx="9074160" cy="63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03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23B9AD-EE45-48ED-A80E-BED2966A9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5153040" y="1957320"/>
            <a:ext cx="442800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503280" y="462096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FD1992-F7F1-4025-A010-8CC47BF49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442800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515304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5153040" y="462096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D40954-0A44-4C94-A09A-19B5BCA9A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515304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503280" y="4620960"/>
            <a:ext cx="90741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0B884B-2F64-4302-AC7F-6F55A3FCF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53040" y="1957320"/>
            <a:ext cx="442800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03280" y="462096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B868D-A9F8-4343-89DD-352EBD330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90741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03280" y="4620960"/>
            <a:ext cx="90741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886F32-1681-4799-94D8-A85B303B4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15304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03280" y="462096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5153040" y="462096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4CE7FD-C119-4D47-92A0-9D52136D8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571560" y="195732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639840" y="195732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503280" y="462096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571560" y="462096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639840" y="462096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0447A8-D9B4-4D74-8606-94962DF74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F0501E-9CAC-49A0-889D-6532F7A59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503280" y="1957320"/>
            <a:ext cx="9074160" cy="509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03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BB9D7E-AE62-4017-887C-A8EE7B9D0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907416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DC5D9E-DFCE-4609-B320-0318665E9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442800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5153040" y="1957320"/>
            <a:ext cx="442800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B1D970-22F9-4810-A533-285F21BA8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9018C5-6F61-4CA1-9C4B-5A9FC5BA1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503280" y="168120"/>
            <a:ext cx="9074160" cy="63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03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C619F3-60FF-4BF0-A0A2-3F5B026C2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5153040" y="1957320"/>
            <a:ext cx="442800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03280" y="462096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BB0A88-96E1-482C-8B19-9D527B15B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442800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5304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53040" y="462096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FB077-0886-42DF-B832-D0F87861F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442800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515304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153040" y="462096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274BD5-461E-4007-8E03-EB4A101A4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515304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503280" y="4620960"/>
            <a:ext cx="90741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5585AD-658C-45AA-8D28-C2F933246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90741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503280" y="4620960"/>
            <a:ext cx="90741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133473-15E0-48BF-BBBF-092BC54CA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15304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503280" y="462096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5153040" y="462096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126048-08AE-4827-88FF-BC94C849B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571560" y="195732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639840" y="195732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503280" y="462096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571560" y="462096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639840" y="462096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72370D-03B6-4764-9D16-DFE783892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BFC08D-4351-489A-AC19-B72D66E94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3280" y="1957320"/>
            <a:ext cx="9074160" cy="509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03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68388E-A0B6-4A33-BA51-CD4F4D88E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907416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025E63-8D88-4EC2-BC4A-791F468E7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442800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5153040" y="1957320"/>
            <a:ext cx="442800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7613CE-24A5-4E08-96B3-CEC287AC8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44D620-C88A-4863-BBB1-7F011A402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5304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3280" y="4620960"/>
            <a:ext cx="90741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42237-6A5D-4213-B1FB-2B2792E11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3280" y="168120"/>
            <a:ext cx="9074160" cy="63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03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D0A2DD-FDD2-46F8-B81B-14154571B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5153040" y="1957320"/>
            <a:ext cx="442800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3280" y="462096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21C07C-228A-4D00-8537-5D855C825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442800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515304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5153040" y="462096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A28197-8645-4271-9C24-39D1C8EC4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515304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3280" y="4620960"/>
            <a:ext cx="90741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D4B7CE-A529-4F0D-BBC5-2273D9BC6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90741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3280" y="4620960"/>
            <a:ext cx="90741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CD7051-7FF0-440C-96D7-157799C86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515304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3280" y="462096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5153040" y="462096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F0C67A-32A6-44EB-A59A-7421FE10F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571560" y="195732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639840" y="195732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3280" y="462096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571560" y="462096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639840" y="462096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4C6796-F88F-489C-8246-9547E959A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1C9CFA-4D94-4292-9D19-4024E4B11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503280" y="1957320"/>
            <a:ext cx="9074160" cy="509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03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230BC9-058A-48CF-931B-C1896B2DA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907416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320D56-48DC-4FE5-B72D-374785FFE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1582560"/>
            <a:ext cx="10080720" cy="511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0800" rIns="100800" tIns="720" bIns="72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6"/>
          <p:cNvSpPr/>
          <p:nvPr/>
        </p:nvSpPr>
        <p:spPr>
          <a:xfrm>
            <a:off x="0" y="0"/>
            <a:ext cx="10080720" cy="1581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503280" y="1957320"/>
            <a:ext cx="907416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marL="482760" indent="-3524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1" marL="804960" indent="-3016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2" marL="1098720" indent="-25092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3" marL="1339920" indent="-20016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4" marL="1571760" indent="-20016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5" marL="1571760" indent="-20016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6" marL="1571760" indent="-20016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502920" y="7139160"/>
            <a:ext cx="2352600" cy="303120"/>
          </a:xfrm>
          <a:prstGeom prst="rect">
            <a:avLst/>
          </a:prstGeom>
          <a:noFill/>
          <a:ln w="0">
            <a:noFill/>
          </a:ln>
        </p:spPr>
        <p:txBody>
          <a:bodyPr lIns="120960" rIns="50400" tIns="5040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911320" y="7139160"/>
            <a:ext cx="6072480" cy="303120"/>
          </a:xfrm>
          <a:prstGeom prst="rect">
            <a:avLst/>
          </a:prstGeom>
          <a:noFill/>
          <a:ln w="0">
            <a:noFill/>
          </a:ln>
        </p:spPr>
        <p:txBody>
          <a:bodyPr lIns="50400" rIns="50400" tIns="5040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9043560" y="7139160"/>
            <a:ext cx="809640" cy="30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3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BF68FB-C967-4E5F-9582-9886C32B1400}" type="slidenum">
              <a:rPr b="0" lang="en-GB" sz="13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0" y="0"/>
            <a:ext cx="10080720" cy="5661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0"/>
          <p:cNvSpPr/>
          <p:nvPr/>
        </p:nvSpPr>
        <p:spPr>
          <a:xfrm>
            <a:off x="0" y="5653080"/>
            <a:ext cx="10080720" cy="507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0800" rIns="100800" tIns="360" bIns="36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503280" y="1957320"/>
            <a:ext cx="907416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marL="482760" indent="-3524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500" spc="-1" strike="noStrike">
              <a:solidFill>
                <a:srgbClr val="ffffff"/>
              </a:solidFill>
              <a:latin typeface="Corbel"/>
            </a:endParaRPr>
          </a:p>
          <a:p>
            <a:pPr lvl="1" marL="804960" indent="-3016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500" spc="-1" strike="noStrike">
              <a:solidFill>
                <a:srgbClr val="ffffff"/>
              </a:solidFill>
              <a:latin typeface="Corbel"/>
            </a:endParaRPr>
          </a:p>
          <a:p>
            <a:pPr lvl="2" marL="1098720" indent="-25092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500" spc="-1" strike="noStrike">
              <a:solidFill>
                <a:srgbClr val="ffffff"/>
              </a:solidFill>
              <a:latin typeface="Corbel"/>
            </a:endParaRPr>
          </a:p>
          <a:p>
            <a:pPr lvl="3" marL="1339920" indent="-20016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500" spc="-1" strike="noStrike">
              <a:solidFill>
                <a:srgbClr val="ffffff"/>
              </a:solidFill>
              <a:latin typeface="Corbel"/>
            </a:endParaRPr>
          </a:p>
          <a:p>
            <a:pPr lvl="4" marL="1571760" indent="-20016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500" spc="-1" strike="noStrike">
              <a:solidFill>
                <a:srgbClr val="ffffff"/>
              </a:solidFill>
              <a:latin typeface="Corbel"/>
            </a:endParaRPr>
          </a:p>
          <a:p>
            <a:pPr lvl="5" marL="1571760" indent="-20016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500" spc="-1" strike="noStrike">
              <a:solidFill>
                <a:srgbClr val="ffffff"/>
              </a:solidFill>
              <a:latin typeface="Corbel"/>
            </a:endParaRPr>
          </a:p>
          <a:p>
            <a:pPr lvl="6" marL="1571760" indent="-20016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5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502920" y="7139160"/>
            <a:ext cx="2352600" cy="303120"/>
          </a:xfrm>
          <a:prstGeom prst="rect">
            <a:avLst/>
          </a:prstGeom>
          <a:noFill/>
          <a:ln w="0">
            <a:noFill/>
          </a:ln>
        </p:spPr>
        <p:txBody>
          <a:bodyPr lIns="120960" rIns="50400" tIns="50400" bIns="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95E66E8-D24A-415D-9F64-E29A1BB4C0A5}" type="datetime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911320" y="7139160"/>
            <a:ext cx="6072480" cy="303120"/>
          </a:xfrm>
          <a:prstGeom prst="rect">
            <a:avLst/>
          </a:prstGeom>
          <a:noFill/>
          <a:ln w="0">
            <a:noFill/>
          </a:ln>
        </p:spPr>
        <p:txBody>
          <a:bodyPr lIns="50400" rIns="50400" tIns="5040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9043560" y="7139160"/>
            <a:ext cx="809640" cy="30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10365D7-36C7-44FF-9597-E8831AD93780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8"/>
          <p:cNvSpPr/>
          <p:nvPr/>
        </p:nvSpPr>
        <p:spPr>
          <a:xfrm>
            <a:off x="0" y="0"/>
            <a:ext cx="10080720" cy="2868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0" y="2868480"/>
            <a:ext cx="10080720" cy="507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0800" rIns="100800" tIns="360" bIns="36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503280" y="1957320"/>
            <a:ext cx="907416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marL="482760" indent="-3524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500" spc="-1" strike="noStrike">
              <a:solidFill>
                <a:srgbClr val="ffffff"/>
              </a:solidFill>
              <a:latin typeface="Corbel"/>
            </a:endParaRPr>
          </a:p>
          <a:p>
            <a:pPr lvl="1" marL="804960" indent="-3016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500" spc="-1" strike="noStrike">
              <a:solidFill>
                <a:srgbClr val="ffffff"/>
              </a:solidFill>
              <a:latin typeface="Corbel"/>
            </a:endParaRPr>
          </a:p>
          <a:p>
            <a:pPr lvl="2" marL="1098720" indent="-25092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500" spc="-1" strike="noStrike">
              <a:solidFill>
                <a:srgbClr val="ffffff"/>
              </a:solidFill>
              <a:latin typeface="Corbel"/>
            </a:endParaRPr>
          </a:p>
          <a:p>
            <a:pPr lvl="3" marL="1339920" indent="-20016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500" spc="-1" strike="noStrike">
              <a:solidFill>
                <a:srgbClr val="ffffff"/>
              </a:solidFill>
              <a:latin typeface="Corbel"/>
            </a:endParaRPr>
          </a:p>
          <a:p>
            <a:pPr lvl="4" marL="1571760" indent="-20016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500" spc="-1" strike="noStrike">
              <a:solidFill>
                <a:srgbClr val="ffffff"/>
              </a:solidFill>
              <a:latin typeface="Corbel"/>
            </a:endParaRPr>
          </a:p>
          <a:p>
            <a:pPr lvl="5" marL="1571760" indent="-20016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500" spc="-1" strike="noStrike">
              <a:solidFill>
                <a:srgbClr val="ffffff"/>
              </a:solidFill>
              <a:latin typeface="Corbel"/>
            </a:endParaRPr>
          </a:p>
          <a:p>
            <a:pPr lvl="6" marL="1571760" indent="-20016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5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502920" y="7139160"/>
            <a:ext cx="2352600" cy="303120"/>
          </a:xfrm>
          <a:prstGeom prst="rect">
            <a:avLst/>
          </a:prstGeom>
          <a:noFill/>
          <a:ln w="0">
            <a:noFill/>
          </a:ln>
        </p:spPr>
        <p:txBody>
          <a:bodyPr lIns="120960" rIns="50400" tIns="50400" bIns="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79FBF25-ED4C-41CE-A901-59BCC1788B83}" type="datetime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911320" y="7139160"/>
            <a:ext cx="6072480" cy="303120"/>
          </a:xfrm>
          <a:prstGeom prst="rect">
            <a:avLst/>
          </a:prstGeom>
          <a:noFill/>
          <a:ln w="0">
            <a:noFill/>
          </a:ln>
        </p:spPr>
        <p:txBody>
          <a:bodyPr lIns="50400" rIns="50400" tIns="5040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9043560" y="7139160"/>
            <a:ext cx="809640" cy="30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C7F4228-57D1-434A-A3DB-42BE1950C6D9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3280" y="1957320"/>
            <a:ext cx="907416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marL="482760" indent="-3524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1" marL="804960" indent="-3016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2" marL="1098720" indent="-25092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3" marL="1339920" indent="-20016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4" marL="1571760" indent="-20016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5" marL="1571760" indent="-20016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6" marL="1571760" indent="-20016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502920" y="7139160"/>
            <a:ext cx="2352600" cy="303120"/>
          </a:xfrm>
          <a:prstGeom prst="rect">
            <a:avLst/>
          </a:prstGeom>
          <a:noFill/>
          <a:ln w="0">
            <a:noFill/>
          </a:ln>
        </p:spPr>
        <p:txBody>
          <a:bodyPr lIns="120960" rIns="50400" tIns="5040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911320" y="7139160"/>
            <a:ext cx="6072480" cy="303120"/>
          </a:xfrm>
          <a:prstGeom prst="rect">
            <a:avLst/>
          </a:prstGeom>
          <a:noFill/>
          <a:ln w="0">
            <a:noFill/>
          </a:ln>
        </p:spPr>
        <p:txBody>
          <a:bodyPr lIns="50400" rIns="50400" tIns="5040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9043560" y="7139160"/>
            <a:ext cx="809640" cy="30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3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52CD654-DFC7-4129-8460-2FC10BE0A978}" type="slidenum">
              <a:rPr b="0" lang="en-GB" sz="13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9"/>
          <p:cNvSpPr/>
          <p:nvPr/>
        </p:nvSpPr>
        <p:spPr>
          <a:xfrm>
            <a:off x="0" y="1582560"/>
            <a:ext cx="10080720" cy="511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0800" rIns="100800" tIns="720" bIns="72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0" y="0"/>
            <a:ext cx="10080720" cy="1581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8"/>
          <p:cNvSpPr/>
          <p:nvPr/>
        </p:nvSpPr>
        <p:spPr>
          <a:xfrm>
            <a:off x="3147840" y="0"/>
            <a:ext cx="51120" cy="16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0"/>
          <p:cNvSpPr/>
          <p:nvPr/>
        </p:nvSpPr>
        <p:spPr>
          <a:xfrm>
            <a:off x="3147840" y="0"/>
            <a:ext cx="51120" cy="16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503280" y="1957320"/>
            <a:ext cx="907416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marL="482760" indent="-3524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1" marL="804960" indent="-3016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2" marL="1098720" indent="-25092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3" marL="1339920" indent="-20016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4" marL="1571760" indent="-20016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5" marL="1571760" indent="-20016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6" marL="1571760" indent="-20016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502920" y="7139160"/>
            <a:ext cx="2352600" cy="303120"/>
          </a:xfrm>
          <a:prstGeom prst="rect">
            <a:avLst/>
          </a:prstGeom>
          <a:noFill/>
          <a:ln w="0">
            <a:noFill/>
          </a:ln>
        </p:spPr>
        <p:txBody>
          <a:bodyPr lIns="120960" rIns="50400" tIns="5040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911320" y="7139160"/>
            <a:ext cx="6072480" cy="303120"/>
          </a:xfrm>
          <a:prstGeom prst="rect">
            <a:avLst/>
          </a:prstGeom>
          <a:noFill/>
          <a:ln w="0">
            <a:noFill/>
          </a:ln>
        </p:spPr>
        <p:txBody>
          <a:bodyPr lIns="50400" rIns="50400" tIns="5040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9043560" y="7139160"/>
            <a:ext cx="809640" cy="30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3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E42DC1-2224-4395-A7F1-55E477820F9A}" type="slidenum">
              <a:rPr b="0" lang="en-GB" sz="13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9"/>
          <p:cNvSpPr/>
          <p:nvPr/>
        </p:nvSpPr>
        <p:spPr>
          <a:xfrm>
            <a:off x="0" y="1582560"/>
            <a:ext cx="10080720" cy="511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0800" rIns="100800" tIns="720" bIns="72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6"/>
          <p:cNvSpPr/>
          <p:nvPr/>
        </p:nvSpPr>
        <p:spPr>
          <a:xfrm>
            <a:off x="0" y="0"/>
            <a:ext cx="10080720" cy="1581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8"/>
          <p:cNvSpPr/>
          <p:nvPr/>
        </p:nvSpPr>
        <p:spPr>
          <a:xfrm>
            <a:off x="3147840" y="0"/>
            <a:ext cx="51120" cy="755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10"/>
          <p:cNvSpPr/>
          <p:nvPr/>
        </p:nvSpPr>
        <p:spPr>
          <a:xfrm>
            <a:off x="3147840" y="0"/>
            <a:ext cx="51120" cy="755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503280" y="1957320"/>
            <a:ext cx="907416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marL="482760" indent="-3524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1" marL="804960" indent="-3016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2" marL="1098720" indent="-25092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3" marL="1339920" indent="-20016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4" marL="1571760" indent="-20016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5" marL="1571760" indent="-20016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6" marL="1571760" indent="-20016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181080" y="1290240"/>
            <a:ext cx="2782800" cy="220680"/>
          </a:xfrm>
          <a:prstGeom prst="rect">
            <a:avLst/>
          </a:prstGeom>
          <a:noFill/>
          <a:ln w="0">
            <a:noFill/>
          </a:ln>
        </p:spPr>
        <p:txBody>
          <a:bodyPr lIns="120960" rIns="50400" tIns="5040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346560" y="1290240"/>
            <a:ext cx="5726160" cy="220680"/>
          </a:xfrm>
          <a:prstGeom prst="rect">
            <a:avLst/>
          </a:prstGeom>
          <a:noFill/>
          <a:ln w="0">
            <a:noFill/>
          </a:ln>
        </p:spPr>
        <p:txBody>
          <a:bodyPr lIns="50400" rIns="50400" tIns="5040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9192960" y="1290240"/>
            <a:ext cx="809640" cy="220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3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979168-D25E-455E-BEB6-546CBBE74CB4}" type="slidenum">
              <a:rPr b="0" lang="en-GB" sz="13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8"/>
          <p:cNvSpPr/>
          <p:nvPr/>
        </p:nvSpPr>
        <p:spPr>
          <a:xfrm>
            <a:off x="7275600" y="0"/>
            <a:ext cx="48960" cy="75596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10"/>
          <p:cNvSpPr/>
          <p:nvPr/>
        </p:nvSpPr>
        <p:spPr>
          <a:xfrm>
            <a:off x="7327800" y="0"/>
            <a:ext cx="2773440" cy="755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503280" y="1957320"/>
            <a:ext cx="907416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marL="482760" indent="-3524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1" marL="804960" indent="-3016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2" marL="1098720" indent="-25092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3" marL="1339920" indent="-20016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4" marL="1571760" indent="-20016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5" marL="1571760" indent="-20016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6" marL="1571760" indent="-20016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502920" y="7139160"/>
            <a:ext cx="2352600" cy="303120"/>
          </a:xfrm>
          <a:prstGeom prst="rect">
            <a:avLst/>
          </a:prstGeom>
          <a:noFill/>
          <a:ln w="0">
            <a:noFill/>
          </a:ln>
        </p:spPr>
        <p:txBody>
          <a:bodyPr lIns="120960" rIns="50400" tIns="5040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911320" y="7029360"/>
            <a:ext cx="4229280" cy="403200"/>
          </a:xfrm>
          <a:prstGeom prst="rect">
            <a:avLst/>
          </a:prstGeom>
          <a:noFill/>
          <a:ln w="0">
            <a:noFill/>
          </a:ln>
        </p:spPr>
        <p:txBody>
          <a:bodyPr lIns="50400" rIns="50400" tIns="5040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9043560" y="7139160"/>
            <a:ext cx="809640" cy="30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3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671802-7448-4AF0-B2B9-8EDDB4B7C85F}" type="slidenum">
              <a:rPr b="0" lang="en-GB" sz="13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9"/>
          <p:cNvSpPr/>
          <p:nvPr/>
        </p:nvSpPr>
        <p:spPr>
          <a:xfrm>
            <a:off x="0" y="1582560"/>
            <a:ext cx="10080720" cy="511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0800" rIns="100800" tIns="720" bIns="72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6"/>
          <p:cNvSpPr/>
          <p:nvPr/>
        </p:nvSpPr>
        <p:spPr>
          <a:xfrm>
            <a:off x="0" y="0"/>
            <a:ext cx="10080720" cy="1581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3280" y="1957320"/>
            <a:ext cx="907416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marL="482760" indent="-3524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1" marL="804960" indent="-3016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2" marL="1098720" indent="-25092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3" marL="1339920" indent="-20016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4" marL="1571760" indent="-20016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5" marL="1571760" indent="-20016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6" marL="1571760" indent="-20016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502920" y="6886080"/>
            <a:ext cx="2346120" cy="520920"/>
          </a:xfrm>
          <a:prstGeom prst="rect">
            <a:avLst/>
          </a:prstGeom>
          <a:noFill/>
          <a:ln w="0">
            <a:noFill/>
          </a:ln>
        </p:spPr>
        <p:txBody>
          <a:bodyPr lIns="120960" rIns="50400" tIns="5040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448080" y="6886080"/>
            <a:ext cx="3193920" cy="520920"/>
          </a:xfrm>
          <a:prstGeom prst="rect">
            <a:avLst/>
          </a:prstGeom>
          <a:noFill/>
          <a:ln w="0">
            <a:noFill/>
          </a:ln>
        </p:spPr>
        <p:txBody>
          <a:bodyPr lIns="50400" rIns="50400" tIns="5040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7226280" y="6886080"/>
            <a:ext cx="2346480" cy="520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3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1E06E8-A53B-4B03-A76F-E378F5C91D43}" type="slidenum">
              <a:rPr b="0" lang="en-GB" sz="13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9"/>
          <p:cNvSpPr/>
          <p:nvPr/>
        </p:nvSpPr>
        <p:spPr>
          <a:xfrm>
            <a:off x="0" y="1582560"/>
            <a:ext cx="10080720" cy="511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0800" rIns="100800" tIns="720" bIns="72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6"/>
          <p:cNvSpPr/>
          <p:nvPr/>
        </p:nvSpPr>
        <p:spPr>
          <a:xfrm>
            <a:off x="0" y="0"/>
            <a:ext cx="10080720" cy="1581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503280" y="1957320"/>
            <a:ext cx="907416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marL="482760" indent="-3524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1" marL="804960" indent="-3016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2" marL="1098720" indent="-25092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3" marL="1339920" indent="-20016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4" marL="1571760" indent="-20016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5" marL="1571760" indent="-20016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6" marL="1571760" indent="-20016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dt" idx="25"/>
          </p:nvPr>
        </p:nvSpPr>
        <p:spPr>
          <a:xfrm>
            <a:off x="502920" y="6886080"/>
            <a:ext cx="2346120" cy="520920"/>
          </a:xfrm>
          <a:prstGeom prst="rect">
            <a:avLst/>
          </a:prstGeom>
          <a:noFill/>
          <a:ln w="0">
            <a:noFill/>
          </a:ln>
        </p:spPr>
        <p:txBody>
          <a:bodyPr lIns="120960" rIns="50400" tIns="5040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ftr" idx="26"/>
          </p:nvPr>
        </p:nvSpPr>
        <p:spPr>
          <a:xfrm>
            <a:off x="3448080" y="6886080"/>
            <a:ext cx="3193920" cy="520920"/>
          </a:xfrm>
          <a:prstGeom prst="rect">
            <a:avLst/>
          </a:prstGeom>
          <a:noFill/>
          <a:ln w="0">
            <a:noFill/>
          </a:ln>
        </p:spPr>
        <p:txBody>
          <a:bodyPr lIns="50400" rIns="50400" tIns="5040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27"/>
          </p:nvPr>
        </p:nvSpPr>
        <p:spPr>
          <a:xfrm>
            <a:off x="7226280" y="6886080"/>
            <a:ext cx="2346480" cy="520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3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B8C6632-AC6F-45B6-872C-317EE0AFC4A1}" type="slidenum">
              <a:rPr b="0" lang="en-GB" sz="13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0" y="1528560"/>
            <a:ext cx="9072720" cy="58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2160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2160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2160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rbel"/>
              </a:rPr>
              <a:t>Support for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2160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rbel"/>
              </a:rPr>
              <a:t>Global Cloud Resolving Model Simulation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2160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2160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2160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2160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2160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rbel"/>
              </a:rPr>
              <a:t>VACET All-Hands Meeting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2160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rbel"/>
              </a:rPr>
              <a:t>IEEE Vis 2008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Rectangle 1" descr=""/>
          <p:cNvPicPr/>
          <p:nvPr/>
        </p:nvPicPr>
        <p:blipFill>
          <a:blip r:embed="rId1"/>
          <a:stretch/>
        </p:blipFill>
        <p:spPr>
          <a:xfrm>
            <a:off x="500040" y="291960"/>
            <a:ext cx="9082080" cy="128124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 txBox="1"/>
          <p:nvPr/>
        </p:nvSpPr>
        <p:spPr>
          <a:xfrm>
            <a:off x="502920" y="1768320"/>
            <a:ext cx="9072360" cy="498960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marL="482760" indent="-3524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rbel"/>
              </a:rPr>
              <a:t>Further work w/ Cray on optimizing mpi-io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marL="482760" indent="-3524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rbel"/>
              </a:rPr>
              <a:t>Finalize data model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1" marL="804960" indent="-301680">
              <a:spcBef>
                <a:spcPts val="774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Corbel"/>
              </a:rPr>
              <a:t>cell/corner/edge/face centered data</a:t>
            </a:r>
            <a:endParaRPr b="0" lang="en-US" sz="3100" spc="-1" strike="noStrike">
              <a:solidFill>
                <a:srgbClr val="000000"/>
              </a:solidFill>
              <a:latin typeface="Corbel"/>
            </a:endParaRPr>
          </a:p>
          <a:p>
            <a:pPr lvl="1" marL="804960" indent="-301680">
              <a:spcBef>
                <a:spcPts val="774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Corbel"/>
              </a:rPr>
              <a:t>validate NetCDF-4 </a:t>
            </a:r>
            <a:endParaRPr b="0" lang="en-US" sz="3100" spc="-1" strike="noStrike">
              <a:solidFill>
                <a:srgbClr val="000000"/>
              </a:solidFill>
              <a:latin typeface="Corbel"/>
            </a:endParaRPr>
          </a:p>
          <a:p>
            <a:pPr marL="482760" indent="-3524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rbel"/>
              </a:rPr>
              <a:t>VisIt plugin enhancements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1" marL="804960" indent="-301680">
              <a:spcBef>
                <a:spcPts val="774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Corbel"/>
              </a:rPr>
              <a:t>parallelization</a:t>
            </a:r>
            <a:endParaRPr b="0" lang="en-US" sz="3100" spc="-1" strike="noStrike">
              <a:solidFill>
                <a:srgbClr val="000000"/>
              </a:solidFill>
              <a:latin typeface="Corbel"/>
            </a:endParaRPr>
          </a:p>
          <a:p>
            <a:pPr lvl="1" marL="804960" indent="-301680">
              <a:spcBef>
                <a:spcPts val="774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Corbel"/>
              </a:rPr>
              <a:t>incorporate morton-ordering</a:t>
            </a:r>
            <a:endParaRPr b="0" lang="en-US" sz="31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Rectangle 1" descr=""/>
          <p:cNvPicPr/>
          <p:nvPr/>
        </p:nvPicPr>
        <p:blipFill>
          <a:blip r:embed="rId1"/>
          <a:stretch/>
        </p:blipFill>
        <p:spPr>
          <a:xfrm>
            <a:off x="500040" y="291960"/>
            <a:ext cx="9082080" cy="128124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 txBox="1"/>
          <p:nvPr/>
        </p:nvSpPr>
        <p:spPr>
          <a:xfrm>
            <a:off x="502920" y="1768320"/>
            <a:ext cx="9072360" cy="56109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marL="482760" indent="-3524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rbel"/>
              </a:rPr>
              <a:t>Colorado State Univ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1" marL="804960" indent="-301680">
              <a:spcBef>
                <a:spcPts val="774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Corbel"/>
              </a:rPr>
              <a:t>Dave Randall, Ross Heikes</a:t>
            </a:r>
            <a:endParaRPr b="0" lang="en-US" sz="3100" spc="-1" strike="noStrike">
              <a:solidFill>
                <a:srgbClr val="000000"/>
              </a:solidFill>
              <a:latin typeface="Corbel"/>
            </a:endParaRPr>
          </a:p>
          <a:p>
            <a:pPr marL="482760" indent="-3524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rbel"/>
              </a:rPr>
              <a:t>PNNL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1" marL="804960" indent="-301680">
              <a:spcBef>
                <a:spcPts val="774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Corbel"/>
              </a:rPr>
              <a:t>Karen Schuchardt, Bruce Palmer, Annette Koonz</a:t>
            </a:r>
            <a:endParaRPr b="0" lang="en-US" sz="3100" spc="-1" strike="noStrike">
              <a:solidFill>
                <a:srgbClr val="000000"/>
              </a:solidFill>
              <a:latin typeface="Corbel"/>
            </a:endParaRPr>
          </a:p>
          <a:p>
            <a:pPr marL="482760" indent="-3524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rbel"/>
              </a:rPr>
              <a:t>LBNL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1" marL="804960" indent="-301680">
              <a:spcBef>
                <a:spcPts val="774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Corbel"/>
              </a:rPr>
              <a:t>Janet Jacobsen, Wes Bethel</a:t>
            </a:r>
            <a:endParaRPr b="0" lang="en-US" sz="3100" spc="-1" strike="noStrike">
              <a:solidFill>
                <a:srgbClr val="000000"/>
              </a:solidFill>
              <a:latin typeface="Corbel"/>
            </a:endParaRPr>
          </a:p>
          <a:p>
            <a:pPr lvl="1" marL="804960" indent="-301680">
              <a:spcBef>
                <a:spcPts val="774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Corbel"/>
              </a:rPr>
              <a:t>Mark Howison</a:t>
            </a:r>
            <a:endParaRPr b="0" lang="en-US" sz="3100" spc="-1" strike="noStrike">
              <a:solidFill>
                <a:srgbClr val="000000"/>
              </a:solidFill>
              <a:latin typeface="Corbel"/>
            </a:endParaRPr>
          </a:p>
          <a:p>
            <a:pPr lvl="1" marL="804960" indent="-301680">
              <a:spcBef>
                <a:spcPts val="774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Corbel"/>
              </a:rPr>
              <a:t>Katie Antypas, John Shalf, Shane Canon</a:t>
            </a:r>
            <a:endParaRPr b="0" lang="en-US" sz="3100" spc="-1" strike="noStrike">
              <a:solidFill>
                <a:srgbClr val="000000"/>
              </a:solidFill>
              <a:latin typeface="Corbel"/>
            </a:endParaRPr>
          </a:p>
          <a:p>
            <a:pPr marL="482760" indent="-3524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rbel"/>
              </a:rPr>
              <a:t>VisIt team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Rectangle 1" descr=""/>
          <p:cNvPicPr/>
          <p:nvPr/>
        </p:nvPicPr>
        <p:blipFill>
          <a:blip r:embed="rId1"/>
          <a:stretch/>
        </p:blipFill>
        <p:spPr>
          <a:xfrm>
            <a:off x="500040" y="291960"/>
            <a:ext cx="9082080" cy="1281240"/>
          </a:xfrm>
          <a:prstGeom prst="rect">
            <a:avLst/>
          </a:prstGeom>
          <a:ln w="0">
            <a:noFill/>
          </a:ln>
        </p:spPr>
      </p:pic>
      <p:sp>
        <p:nvSpPr>
          <p:cNvPr id="399" name=""/>
          <p:cNvSpPr txBox="1"/>
          <p:nvPr/>
        </p:nvSpPr>
        <p:spPr>
          <a:xfrm>
            <a:off x="502920" y="1767960"/>
            <a:ext cx="9072360" cy="50468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marL="482760" indent="-3524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rbel"/>
              </a:rPr>
              <a:t>SciDAC/INCITE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1" marL="804960" indent="-301680">
              <a:spcBef>
                <a:spcPts val="774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Corbel"/>
              </a:rPr>
              <a:t>PI: Dave Randall (CSU) </a:t>
            </a:r>
            <a:endParaRPr b="0" lang="en-US" sz="3100" spc="-1" strike="noStrike">
              <a:solidFill>
                <a:srgbClr val="000000"/>
              </a:solidFill>
              <a:latin typeface="Corbel"/>
            </a:endParaRPr>
          </a:p>
          <a:p>
            <a:pPr lvl="1" marL="804960" indent="-301680">
              <a:spcBef>
                <a:spcPts val="774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Corbel"/>
              </a:rPr>
              <a:t>2008 INCITE award at NERSC</a:t>
            </a:r>
            <a:endParaRPr b="0" lang="en-US" sz="3100" spc="-1" strike="noStrike">
              <a:solidFill>
                <a:srgbClr val="000000"/>
              </a:solidFill>
              <a:latin typeface="Corbel"/>
            </a:endParaRPr>
          </a:p>
          <a:p>
            <a:pPr marL="482760" indent="-3524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rbel"/>
              </a:rPr>
              <a:t>Multi-institution collaboration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1" marL="804960" indent="-301680">
              <a:spcBef>
                <a:spcPts val="774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Corbel"/>
              </a:rPr>
              <a:t>CSU researchers developing the climate simulation</a:t>
            </a:r>
            <a:endParaRPr b="0" lang="en-US" sz="3100" spc="-1" strike="noStrike">
              <a:solidFill>
                <a:srgbClr val="000000"/>
              </a:solidFill>
              <a:latin typeface="Corbel"/>
            </a:endParaRPr>
          </a:p>
          <a:p>
            <a:pPr lvl="1" marL="804960" indent="-301680">
              <a:spcBef>
                <a:spcPts val="774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Corbel"/>
              </a:rPr>
              <a:t>PNNL researchers developing the Data API</a:t>
            </a:r>
            <a:endParaRPr b="0" lang="en-US" sz="3100" spc="-1" strike="noStrike">
              <a:solidFill>
                <a:srgbClr val="000000"/>
              </a:solidFill>
              <a:latin typeface="Corbel"/>
            </a:endParaRPr>
          </a:p>
          <a:p>
            <a:pPr lvl="1" marL="804960" indent="-301680">
              <a:spcBef>
                <a:spcPts val="774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Corbel"/>
              </a:rPr>
              <a:t>VACET researchers helping w/ Data model, Parallel IO and Vis</a:t>
            </a:r>
            <a:endParaRPr b="0" lang="en-US" sz="31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Rectangle 1" descr=""/>
          <p:cNvPicPr/>
          <p:nvPr/>
        </p:nvPicPr>
        <p:blipFill>
          <a:blip r:embed="rId1"/>
          <a:stretch/>
        </p:blipFill>
        <p:spPr>
          <a:xfrm>
            <a:off x="500040" y="291960"/>
            <a:ext cx="9082080" cy="1281240"/>
          </a:xfrm>
          <a:prstGeom prst="rect">
            <a:avLst/>
          </a:prstGeom>
          <a:ln w="0">
            <a:noFill/>
          </a:ln>
        </p:spPr>
      </p:pic>
      <p:sp>
        <p:nvSpPr>
          <p:cNvPr id="401" name=""/>
          <p:cNvSpPr txBox="1"/>
          <p:nvPr/>
        </p:nvSpPr>
        <p:spPr>
          <a:xfrm>
            <a:off x="502920" y="1767960"/>
            <a:ext cx="9109080" cy="5888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marL="482760" indent="-3524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rbel"/>
              </a:rPr>
              <a:t>Global atmospheric circulation mod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804960" indent="-301680"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rbel"/>
              </a:rPr>
              <a:t>non-hydrostatic dynamical core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804960" indent="-301680"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rbel"/>
              </a:rPr>
              <a:t>cloud microphysics, turbulence, radiation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804960" indent="-301680"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rbel"/>
              </a:rPr>
              <a:t>coupled to land-surface mod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82760" indent="-3524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rbel"/>
              </a:rPr>
              <a:t>3km grid-cell spacing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82760" indent="-3524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rbel"/>
              </a:rPr>
              <a:t>Planned runs on 20K+ franklin core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82760" indent="-3524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rbel"/>
              </a:rPr>
              <a:t>Planned 1:1 simulated:wall_clock tim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82760" indent="-3524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rbel"/>
              </a:rPr>
              <a:t>Data throughput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804960" indent="-3016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rbel"/>
              </a:rPr>
              <a:t>~1TB/hr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804960" indent="-3016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rbel"/>
              </a:rPr>
              <a:t>2GB/s aggregate IO performance requirement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804960" indent="-3016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rbel"/>
              </a:rPr>
              <a:t>~50M cells*100 layers, 16GB/variable, 50 variable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Rectangle 1" descr=""/>
          <p:cNvPicPr/>
          <p:nvPr/>
        </p:nvPicPr>
        <p:blipFill>
          <a:blip r:embed="rId1"/>
          <a:stretch/>
        </p:blipFill>
        <p:spPr>
          <a:xfrm>
            <a:off x="463680" y="652320"/>
            <a:ext cx="9082080" cy="785880"/>
          </a:xfrm>
          <a:prstGeom prst="rect">
            <a:avLst/>
          </a:prstGeom>
          <a:ln w="0">
            <a:noFill/>
          </a:ln>
        </p:spPr>
      </p:pic>
      <p:sp>
        <p:nvSpPr>
          <p:cNvPr id="403" name=""/>
          <p:cNvSpPr txBox="1"/>
          <p:nvPr/>
        </p:nvSpPr>
        <p:spPr>
          <a:xfrm>
            <a:off x="502920" y="1767960"/>
            <a:ext cx="9072360" cy="2819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 fontScale="99000"/>
          </a:bodyPr>
          <a:p>
            <a:pPr marL="477720" indent="-3488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rbel"/>
              </a:rPr>
              <a:t>Identify a data model for GCRM code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marL="477720" indent="-3488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rbel"/>
              </a:rPr>
              <a:t>Enable simulation code to do efficient parallel IO 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marL="477720" indent="-3488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rbel"/>
              </a:rPr>
              <a:t>Visualization and Analysis on extremely large icosahedral meshes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Rectangle 1" descr=""/>
          <p:cNvPicPr/>
          <p:nvPr/>
        </p:nvPicPr>
        <p:blipFill>
          <a:blip r:embed="rId1"/>
          <a:stretch/>
        </p:blipFill>
        <p:spPr>
          <a:xfrm>
            <a:off x="500040" y="291960"/>
            <a:ext cx="9082080" cy="1281240"/>
          </a:xfrm>
          <a:prstGeom prst="rect">
            <a:avLst/>
          </a:prstGeom>
          <a:ln w="0">
            <a:noFill/>
          </a:ln>
        </p:spPr>
      </p:pic>
      <p:sp>
        <p:nvSpPr>
          <p:cNvPr id="405" name=""/>
          <p:cNvSpPr txBox="1"/>
          <p:nvPr/>
        </p:nvSpPr>
        <p:spPr>
          <a:xfrm>
            <a:off x="502920" y="1767960"/>
            <a:ext cx="9072360" cy="34275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marL="482760" indent="-3524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rbel"/>
              </a:rPr>
              <a:t>1</a:t>
            </a:r>
            <a:r>
              <a:rPr b="0" lang="en-GB" sz="3500" spc="-1" strike="noStrike" baseline="33000">
                <a:solidFill>
                  <a:srgbClr val="000000"/>
                </a:solidFill>
                <a:latin typeface="Corbel"/>
              </a:rPr>
              <a:t>st</a:t>
            </a:r>
            <a:r>
              <a:rPr b="0" lang="en-GB" sz="3500" spc="-1" strike="noStrike">
                <a:solidFill>
                  <a:srgbClr val="000000"/>
                </a:solidFill>
                <a:latin typeface="Corbel"/>
              </a:rPr>
              <a:t> Phase: NetCDF-3 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1" marL="804960" indent="-301680">
              <a:spcBef>
                <a:spcPts val="774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Corbel"/>
              </a:rPr>
              <a:t>metadata conventions</a:t>
            </a:r>
            <a:endParaRPr b="0" lang="en-US" sz="3100" spc="-1" strike="noStrike">
              <a:solidFill>
                <a:srgbClr val="000000"/>
              </a:solidFill>
              <a:latin typeface="Corbel"/>
            </a:endParaRPr>
          </a:p>
          <a:p>
            <a:pPr lvl="1" marL="804960" indent="-301680">
              <a:spcBef>
                <a:spcPts val="774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orbel"/>
              </a:rPr>
              <a:t>Icosahedral m</a:t>
            </a:r>
            <a:r>
              <a:rPr b="0" lang="en-GB" sz="3100" spc="-1" strike="noStrike">
                <a:solidFill>
                  <a:srgbClr val="000000"/>
                </a:solidFill>
                <a:latin typeface="Corbel"/>
              </a:rPr>
              <a:t>esh variables/layout</a:t>
            </a:r>
            <a:endParaRPr b="0" lang="en-US" sz="3100" spc="-1" strike="noStrike">
              <a:solidFill>
                <a:srgbClr val="000000"/>
              </a:solidFill>
              <a:latin typeface="Corbel"/>
            </a:endParaRPr>
          </a:p>
          <a:p>
            <a:pPr lvl="2" marL="1098720" indent="-250920">
              <a:spcBef>
                <a:spcPts val="649"/>
              </a:spcBef>
              <a:buClr>
                <a:srgbClr val="e66c7d"/>
              </a:buClr>
              <a:buFont typeface="Arial"/>
              <a:buChar char="▪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c</a:t>
            </a:r>
            <a:r>
              <a:rPr b="0" lang="en-GB" sz="2600" spc="-1" strike="noStrike">
                <a:solidFill>
                  <a:srgbClr val="000000"/>
                </a:solidFill>
                <a:latin typeface="Corbel"/>
              </a:rPr>
              <a:t>ell/corner/edge/face centered 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2" marL="1098720" indent="-250920">
              <a:spcBef>
                <a:spcPts val="649"/>
              </a:spcBef>
              <a:buClr>
                <a:srgbClr val="e66c7d"/>
              </a:buClr>
              <a:buFont typeface="Arial"/>
              <a:buChar char="▪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rbel"/>
              </a:rPr>
              <a:t>satisfy VisIt plugin requirements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482760" indent="-3524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rbel"/>
              </a:rPr>
              <a:t>2</a:t>
            </a:r>
            <a:r>
              <a:rPr b="0" lang="en-GB" sz="3500" spc="-1" strike="noStrike" baseline="33000">
                <a:solidFill>
                  <a:srgbClr val="000000"/>
                </a:solidFill>
                <a:latin typeface="Corbel"/>
              </a:rPr>
              <a:t>nd</a:t>
            </a:r>
            <a:r>
              <a:rPr b="0" lang="en-GB" sz="3500" spc="-1" strike="noStrike">
                <a:solidFill>
                  <a:srgbClr val="000000"/>
                </a:solidFill>
                <a:latin typeface="Corbel"/>
              </a:rPr>
              <a:t> Phase NetCDF-4 (HDF5)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Rectangle 1" descr=""/>
          <p:cNvPicPr/>
          <p:nvPr/>
        </p:nvPicPr>
        <p:blipFill>
          <a:blip r:embed="rId1"/>
          <a:stretch/>
        </p:blipFill>
        <p:spPr>
          <a:xfrm>
            <a:off x="500040" y="291960"/>
            <a:ext cx="9082080" cy="1281240"/>
          </a:xfrm>
          <a:prstGeom prst="rect">
            <a:avLst/>
          </a:prstGeom>
          <a:ln w="0">
            <a:noFill/>
          </a:ln>
        </p:spPr>
      </p:pic>
      <p:sp>
        <p:nvSpPr>
          <p:cNvPr id="407" name=""/>
          <p:cNvSpPr txBox="1"/>
          <p:nvPr/>
        </p:nvSpPr>
        <p:spPr>
          <a:xfrm>
            <a:off x="502920" y="1767960"/>
            <a:ext cx="9072360" cy="563508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marL="482760" indent="-3524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rbel"/>
              </a:rPr>
              <a:t>Need sustained 2+GB/s collective IO to single shared file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marL="482760" indent="-3524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rbel"/>
              </a:rPr>
              <a:t>Current franklin performance ~0.3-1.2 GB/s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marL="482760" indent="-3524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rbel"/>
              </a:rPr>
              <a:t>Large number of IOR tests examining factors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1" marL="804960" indent="-301680">
              <a:spcBef>
                <a:spcPts val="774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Corbel"/>
              </a:rPr>
              <a:t>IO patterns</a:t>
            </a:r>
            <a:endParaRPr b="0" lang="en-US" sz="3100" spc="-1" strike="noStrike">
              <a:solidFill>
                <a:srgbClr val="000000"/>
              </a:solidFill>
              <a:latin typeface="Corbel"/>
            </a:endParaRPr>
          </a:p>
          <a:p>
            <a:pPr lvl="1" marL="804960" indent="-301680">
              <a:spcBef>
                <a:spcPts val="774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Corbel"/>
              </a:rPr>
              <a:t>lustre striping</a:t>
            </a:r>
            <a:endParaRPr b="0" lang="en-US" sz="3100" spc="-1" strike="noStrike">
              <a:solidFill>
                <a:srgbClr val="000000"/>
              </a:solidFill>
              <a:latin typeface="Corbel"/>
            </a:endParaRPr>
          </a:p>
          <a:p>
            <a:pPr lvl="1" marL="804960" indent="-301680">
              <a:spcBef>
                <a:spcPts val="774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Corbel"/>
              </a:rPr>
              <a:t>blocking/transfer sizes</a:t>
            </a:r>
            <a:endParaRPr b="0" lang="en-US" sz="3100" spc="-1" strike="noStrike">
              <a:solidFill>
                <a:srgbClr val="000000"/>
              </a:solidFill>
              <a:latin typeface="Corbel"/>
            </a:endParaRPr>
          </a:p>
          <a:p>
            <a:pPr lvl="1" marL="804960" indent="-301680">
              <a:spcBef>
                <a:spcPts val="774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Corbel"/>
              </a:rPr>
              <a:t>#IO nodes, #OSTs</a:t>
            </a:r>
            <a:endParaRPr b="0" lang="en-US" sz="31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Rectangle 1" descr=""/>
          <p:cNvPicPr/>
          <p:nvPr/>
        </p:nvPicPr>
        <p:blipFill>
          <a:blip r:embed="rId1"/>
          <a:stretch/>
        </p:blipFill>
        <p:spPr>
          <a:xfrm>
            <a:off x="500040" y="291960"/>
            <a:ext cx="9082080" cy="1281240"/>
          </a:xfrm>
          <a:prstGeom prst="rect">
            <a:avLst/>
          </a:prstGeom>
          <a:ln w="0">
            <a:noFill/>
          </a:ln>
        </p:spPr>
      </p:pic>
      <p:sp>
        <p:nvSpPr>
          <p:cNvPr id="409" name=""/>
          <p:cNvSpPr txBox="1"/>
          <p:nvPr/>
        </p:nvSpPr>
        <p:spPr>
          <a:xfrm>
            <a:off x="502920" y="1768320"/>
            <a:ext cx="9072360" cy="567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marL="482760" indent="-3524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rbel"/>
              </a:rPr>
              <a:t>Issues identified with Cray's mpich implementation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1" marL="804960" indent="-301680">
              <a:spcBef>
                <a:spcPts val="774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orbel"/>
              </a:rPr>
              <a:t>N</a:t>
            </a:r>
            <a:r>
              <a:rPr b="0" lang="en-GB" sz="3100" spc="-1" strike="noStrike">
                <a:solidFill>
                  <a:srgbClr val="000000"/>
                </a:solidFill>
                <a:latin typeface="Corbel"/>
              </a:rPr>
              <a:t>ot sufficiently aware of OST striping</a:t>
            </a:r>
            <a:endParaRPr b="0" lang="en-US" sz="3100" spc="-1" strike="noStrike">
              <a:solidFill>
                <a:srgbClr val="000000"/>
              </a:solidFill>
              <a:latin typeface="Corbel"/>
            </a:endParaRPr>
          </a:p>
          <a:p>
            <a:pPr marL="482760" indent="-3524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rbel"/>
              </a:rPr>
              <a:t>Modifying HDF5 to align/pad to OST stripes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marL="482760" indent="-3524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rbel"/>
              </a:rPr>
              <a:t>Current best strategy is to use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1" marL="804960" indent="-301680">
              <a:spcBef>
                <a:spcPts val="774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Corbel"/>
              </a:rPr>
              <a:t>2-phase IO (use aggregator nodes)</a:t>
            </a:r>
            <a:endParaRPr b="0" lang="en-US" sz="3100" spc="-1" strike="noStrike">
              <a:solidFill>
                <a:srgbClr val="000000"/>
              </a:solidFill>
              <a:latin typeface="Corbel"/>
            </a:endParaRPr>
          </a:p>
          <a:p>
            <a:pPr lvl="1" marL="804960" indent="-301680">
              <a:spcBef>
                <a:spcPts val="774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Corbel"/>
              </a:rPr>
              <a:t>#IO nodes = #OSTs </a:t>
            </a:r>
            <a:endParaRPr b="0" lang="en-US" sz="3100" spc="-1" strike="noStrike">
              <a:solidFill>
                <a:srgbClr val="000000"/>
              </a:solidFill>
              <a:latin typeface="Corbel"/>
            </a:endParaRPr>
          </a:p>
          <a:p>
            <a:pPr lvl="1" marL="804960" indent="-301680">
              <a:spcBef>
                <a:spcPts val="774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orbel"/>
              </a:rPr>
              <a:t>Match file transfer size to stripe width</a:t>
            </a:r>
            <a:endParaRPr b="0" lang="en-US" sz="3100" spc="-1" strike="noStrike">
              <a:solidFill>
                <a:srgbClr val="000000"/>
              </a:solidFill>
              <a:latin typeface="Corbel"/>
            </a:endParaRPr>
          </a:p>
          <a:p>
            <a:pPr lvl="1" marL="804960" indent="-301680">
              <a:spcBef>
                <a:spcPts val="774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Corbel"/>
              </a:rPr>
              <a:t>Simulate ‘file-per-process’ IO pattern </a:t>
            </a:r>
            <a:endParaRPr b="0" lang="en-US" sz="31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Rectangle 1" descr=""/>
          <p:cNvPicPr/>
          <p:nvPr/>
        </p:nvPicPr>
        <p:blipFill>
          <a:blip r:embed="rId1"/>
          <a:stretch/>
        </p:blipFill>
        <p:spPr>
          <a:xfrm>
            <a:off x="500040" y="291960"/>
            <a:ext cx="9082080" cy="128124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 txBox="1"/>
          <p:nvPr/>
        </p:nvSpPr>
        <p:spPr>
          <a:xfrm>
            <a:off x="502920" y="1768320"/>
            <a:ext cx="9072360" cy="392328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 fontScale="99000"/>
          </a:bodyPr>
          <a:p>
            <a:pPr marL="477720" indent="-3488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rbel"/>
              </a:rPr>
              <a:t>VisIt plugin developed to load icosahedral NetCDF mesh data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marL="477720" indent="-3488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rbel"/>
              </a:rPr>
              <a:t>Preliminary custom visualizations rendered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marL="477720" indent="-3488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rbel"/>
              </a:rPr>
              <a:t>Online tutorials and startup instructions published at: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1" marL="796680" indent="-298440">
              <a:spcBef>
                <a:spcPts val="774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GB" sz="31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GB" sz="3100" spc="-1" strike="noStrike">
                <a:solidFill>
                  <a:srgbClr val="000000"/>
                </a:solidFill>
                <a:latin typeface="Corbel"/>
              </a:rPr>
              <a:t>http://vis.lbl.gov/~prabhat/Incite19/</a:t>
            </a:r>
            <a:endParaRPr b="0" lang="en-US" sz="31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5151600" y="176832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14" name="Picture 3" descr=""/>
          <p:cNvPicPr/>
          <p:nvPr/>
        </p:nvPicPr>
        <p:blipFill>
          <a:blip r:embed="rId1"/>
          <a:stretch/>
        </p:blipFill>
        <p:spPr>
          <a:xfrm>
            <a:off x="1517760" y="0"/>
            <a:ext cx="7399080" cy="7559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rabhat</cp:lastModifiedBy>
  <dcterms:modified xsi:type="dcterms:W3CDTF">2008-10-17T18:33:11Z</dcterms:modified>
  <cp:revision>12</cp:revision>
  <dc:subject/>
  <dc:title>Slide 1</dc:title>
</cp:coreProperties>
</file>